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BCD-7F6C-4850-B071-3FC8A26F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CB1-37AF-497F-9DAC-6DB45A4B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1C2-1D6B-403B-8C41-5171A888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DDD-D0B3-42DE-9E1D-40236876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A50-99AE-4BAE-BA62-AA0F3B40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EE9-A5D0-4C8D-9879-52750FDA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97E-9678-4528-8A86-DE9AB67F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5E2-6DA4-43EB-A9C7-6DCCEEA2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607-5D27-4DF9-ACA5-F3F95208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10B-4040-41F2-B7B7-65CAFFA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144-8928-4957-A363-C5BE50F3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02C-303F-4863-B4E8-924CE397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7337-CF25-48F4-BA62-1211D0584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4343400" cy="2586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201600"/>
            <a:ext cx="3886200" cy="208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320" y="4140360"/>
            <a:ext cx="3962160" cy="264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248520" y="3962520"/>
            <a:ext cx="2819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8-12-03T19:46:35Z</dcterms:modified>
  <cp:revision>9</cp:revision>
  <dc:subject/>
  <dc:title>Slide 1</dc:title>
</cp:coreProperties>
</file>